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467-E09E-4755-92D0-0F343487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C9BD-0F86-4091-BE2D-33FA84D8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A87-658E-472B-AFFF-8883C2C7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883-A521-4C10-8FAD-03D316AE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F4E-CB9E-4B0A-9306-04B6A170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323F-FE01-4BF6-8BE9-369BD1FA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883-A138-4D3D-B346-516E0DC9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506-8F25-4E09-81D2-945B3E8B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C7F-45B3-4BD0-8A5F-4F7A2A66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AE83-F614-4E7E-B620-53F51AD1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6BC-E849-4C5E-8454-71F6AA41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9F5-B795-4B03-8B2C-72ACD6F0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C16A-B323-46DB-A17E-C585254C2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L-Con Writing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from paragraph to complete papers for Sophom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y the key idea you will link your evidence to with your link/expla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key idea of what you are trying to prove or exp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-for each example you give, ,you must link it back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our key idea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plai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y your first example that you think supports your expla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P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 YOUR EXAMPLE BACK TO YOUR KEY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F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THE PREVIOUS TWO STE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NOTHER EXAMPLE AND LINK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P S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KE SURE YOU USE TRANSITIONS BETWEEN EACH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irst example  that supports this is that……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P S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D YOUR PARAGRAPH WITH A CONCLUDING STATEMENT TO WRAP UP YOUR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it is clear that…….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example that  supports this is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part of the play that supports was the fact that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final reason comes from the part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 out the MEL-Con writing program will change students’ writing one paragraph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 taught to organize and focus their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learn to use specific examples to support their argument and will be less likely to diverge from their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focusing their argument, students will effectively communicate their position, which is an important component of all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MSA students will be taught the process of writing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rst step in teaching sophom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students to write better developed, clearer, more organized paragraphs in response to essay questions or any written assignment which requires explanation or persua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Overview of the Acronyms “MEL-Con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      =Main Idea (Topic Sent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       =Evidence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pport/Topic/Proo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        =LINK(Explains how support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es main id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Concluding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mmarizes main idea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=Main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”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 up the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sentence of the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77120" y="4191120"/>
            <a:ext cx="20476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=Evidence or Examp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from sources such as books, lectures, readings, etc. that support your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stuff” you learned or found out about th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can be quotes, statistics,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is something t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mon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one can find it or us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=Lin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s the evidence you used to the key idea in your topic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s how the evidence supports your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nk is what you think or how you relate the evidence to th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link is unique—it shows your thought process and why you chose the evidence you c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=Concluding stat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sentence of your paragraph which summarizes your answer, your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ion your three pieces of evidence again in a new, short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’t forget to use transition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e each of your piec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es your paragraph and makes it easy for the reader to fo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Even more importantly      Moreover                      Third but most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A great example is                          One good example is                       A final good exampl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 first good reason is                                A second quote is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7 steps to MEL-Con paragraph wri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One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swer the question with a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start with “I think” or “I feel” or “I believ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start with Yes or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BECOMES YOUR MAIN IDEA: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-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5:17:17Z</dcterms:created>
  <dc:creator>Chicago Public Schools</dc:creator>
  <dc:description/>
  <dc:language>en-US</dc:language>
  <cp:lastModifiedBy>Chicago Public Schools</cp:lastModifiedBy>
  <dcterms:modified xsi:type="dcterms:W3CDTF">2010-12-09T15:36:12Z</dcterms:modified>
  <cp:revision>2</cp:revision>
  <dc:subject/>
  <dc:title>MEL-Con Writing Strategy</dc:title>
</cp:coreProperties>
</file>